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17F-0D3D-45F4-826A-D39FAB96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F49-D41B-415D-8665-33434E14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2A8-0723-4ADA-AF9B-F233D32D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357-D707-421A-8E66-B8DA9CE2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4CE-962C-4AFF-BF24-02C56D5E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216D-A774-46D9-88C7-A0CE6ED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F6E6-AAF9-4D35-B97E-B3FAEE22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0099-E08C-4A44-BC80-CD5DEB8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5476-2031-4A0F-9689-74B8599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8F1-248F-4DA6-80CE-AB96E88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371C-85E7-4AA3-9116-E19C5D8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255-C48D-4CC2-BCA8-803E60E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0F31-25ED-4046-ACFA-84B40A6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D960-3C3C-478F-B2DA-ACDBF1A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A8DC-54C6-4EC7-90B7-60D73CEA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52A-6593-49BC-A463-A3873A68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E50B-A8DB-4B24-96AC-9F56AA29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28CB-9F26-478C-9D8F-37D2576D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9526-BBF4-499A-BA47-8797968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12EA-9B43-46AB-B704-1D0445C7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8889-A68C-4769-9C04-89B3E23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3CA3-A145-46DE-AE13-DFD08004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E9B-78E1-4874-9783-85FB870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F1DE-FD4A-4C32-9E8D-6F59C60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3506-C1EE-478B-A7B5-D717088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6154-C053-4730-A57F-CA70984E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1339-E7FC-4BEB-AA61-0842468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DB12-5D41-4063-A4F6-BFAAA9C9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D331-DCEE-4077-9617-44CEB14D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1794-57CB-4634-82F1-10189B5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07F7-A612-4A42-8380-421BCE7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16DF-6F52-4BC2-97D3-0B7E03D2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5F5F-B188-404E-B16F-4EEBA4F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B1E-5496-48A1-93CA-BD6D648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B950-320A-4359-9B13-17BBEFA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FDFE-55D4-4A8A-8F2A-91ECB0D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BD29-CBFE-4904-8241-A45EB19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D0CF-E7EB-4B52-BB38-007975F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DD06-36A1-4C90-AA60-8536D98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2353-1A7F-4BD2-8E61-F6D692B5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263B-7278-4F8D-8CE7-6B531B48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0BA0-595B-4657-B7F9-3632473D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F079-1ABA-43E5-9B10-C22B5E9B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FFB-189D-475D-9318-5C91BC18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53F-B88E-44B3-835A-78C6001B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836-A510-4016-819C-0A5A3894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F52-A6AA-46BB-88D1-F89D94B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064-313C-4B59-805B-4E06A61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5D74-8CAB-42FC-A167-6306714C9F4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26C-47AA-4536-8313-A5A25707B6C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7E4-4F03-418C-A4DB-D165A8F6BCB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CBE-57D1-4497-919E-057071A401C7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ffff"/>
                </a:solidFill>
                <a:uFillTx/>
                <a:latin typeface="Constantia"/>
              </a:rPr>
              <a:t>In the article “Spreadsheet Issues: Pitfalls, Best Practices and Practical Tips” Campbell sites a number of problems caused by spreadsheet erro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rosoft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xcel is one of the most widely used programs in the office suite; however, very few people are professionally trained to use it.  Therefore the danger for human errors is high.  For example, in 2003 a Canadian power company took a 24-million-dollar loss when a cut-and-paste error led to a mispriced bid.  As of 2007 there has been 89 news stories dating back to 1995 of substantial spreadsheet error.  Ray Panko had found in an audit research that 97% of spreadsheets reviewed had err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4617b"/>
                </a:solidFill>
                <a:latin typeface="Calibri"/>
              </a:rPr>
              <a:t>What are the sources of these kinds of errors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Human Err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Omission:  Unfamiliar users omit important details to formulas causing major mal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ypo’s: Using a semi-colon instead of a colon will cause and err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ogic errors:  Choos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Unlikely to discover err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It’s hard to find errors before using the spreadsheet as you are not sure what you are looking f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rs are not sure how to properly use the softw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500" spc="-1" strike="noStrike">
                <a:solidFill>
                  <a:srgbClr val="04617b"/>
                </a:solidFill>
                <a:latin typeface="Calibri"/>
              </a:rPr>
              <a:t>What are the sources of these kinds of error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Unfriendly interfa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rs not sure how to use what has been cr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ors not understanding that users may have different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nsure of what commands to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isuse of comm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4617b"/>
                </a:solidFill>
                <a:latin typeface="Calibri"/>
              </a:rPr>
              <a:t>How can teachers help students avoid them in spreadsheets they create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hree main ideas reduce error rates and improve error detec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ink before you create: Planning ahead will help to detect errors before you create th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xpect errors as you work:  Make error checking a part of your rout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ork in groups:  Having others be a part of your work and editing regular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nstantia"/>
              </a:rPr>
              <a:t>Teaching students when spreadsheets are appropriate to us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4617b"/>
                </a:solidFill>
                <a:latin typeface="Calibri"/>
              </a:rPr>
              <a:t>How can teachers help students avoid them in spreadsheets they creat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Creating a good interface design – Think iP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Visual Structure: well defined areas and func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Uniformity of Style: Its needs to look like what has been seen befo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Readability; Large clear font and color choices, lots of space and familiar ic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Hide what isn’t need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Sensible defaul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rintable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rovide presentation ready p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You can use excel to create and present using another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2:39:30Z</dcterms:created>
  <dc:creator>ladmin</dc:creator>
  <dc:description/>
  <dc:language>en-US</dc:language>
  <cp:lastModifiedBy>Mike</cp:lastModifiedBy>
  <dcterms:modified xsi:type="dcterms:W3CDTF">2012-07-10T01:42:27Z</dcterms:modified>
  <cp:revision>2</cp:revision>
  <dc:subject/>
  <dc:title>Chapter 4, Question 2</dc:title>
</cp:coreProperties>
</file>